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FD4-B8A1-4610-9183-3687F6C7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8F2-255E-4FA6-A0C9-FD34286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0BF-D2CB-4DEE-AC56-7113CA18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714-3F0C-437B-9968-33E5ADBB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1F90-3607-47FE-994E-817B8287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89BB-385A-4857-A90E-97B5DDAE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D5E1-23D1-4362-AE6C-A8ED2C01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D582-A07E-471C-BD00-1EC05975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2DAB-D6B5-4913-B78E-C423427A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EA9-D5AB-4409-9FA0-7983325F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40E3-1ED4-4403-BE12-C50D06AE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2EB-D245-4E69-A7A6-5A9CCD9A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64D7-A7FD-4734-8826-0E3EAB3C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A339-B206-4D07-A7E9-7FF7A2C5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F95C-B145-44BB-A828-7FCC539B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E707-5CC4-4CAD-BFF4-F9D384FB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129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5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1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129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C175-1184-4806-9C7D-4EF3D1B4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455-4A34-4568-AF36-746AFAC6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E77-811C-4DB3-B647-2FAC951A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F4E-EFE0-4D4B-8336-AC806D88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BD2-8CC2-4F60-A3A9-FD5E56E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F56-0DC6-41BA-B755-A8E95685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14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369-1203-4BC4-AB77-D3C56879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5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436-0F85-42B6-A405-F368C180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E114-D533-4438-9303-B38D7169F052}" type="slidenum"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B770-5BB3-4BE4-8715-3AC3C6CE603C}" type="slidenum">
              <a:rPr b="0" lang="en-US" sz="1400" spc="-1" strike="noStrike">
                <a:solidFill>
                  <a:srgbClr val="ffff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And the second half begins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37339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s details but big guys even more critic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What’s the goal?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ust like micro, LET THE GRAPH TELL YOU WHAT NEEDS DON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ew semester; same grap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nge the labe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AS / AD graph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nt to produce at POTENTI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so called FULL EMPLOYMENT, NATURAL RATE OF UNEMPLOYMENT, &amp; L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deal output level for coun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resented by vertical lin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ng-ru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Graph it!!!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ertical line = GO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ilibrium tells where 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ways want to move towards 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 so using FISCAL &amp; MONETARY POLIC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In a slump like now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Overview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rpose today is to previe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t major poi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 23 next chapt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ocab need memoriz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Econ is econ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thing has chang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al was to understan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nged during DEPRES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ohn Maynard Keyn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rst time gov’t got involv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2280" y="825480"/>
            <a:ext cx="404172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Waves in the ocean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ic  principles don’t chang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nomy is like the beac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assical view--yeah so wha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ynesians--yeah, fix i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How?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conomy = GD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DP = CIGX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DP = WIR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different ways/pow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eral Gov’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eral Reser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ederal Gov’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y have lots of job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ULATE THE BUSINESS CYC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en that ways since Depress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 different ways to do i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ISCAL POLICY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 Gov’t ability to influence economy by controlling taxes &amp; spen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G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nding = 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xes = 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Federal Reserve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mmy” ban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part of gov’t but works w/ i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banks control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ETARY POLI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ey suppl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happens when you have more money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Monetary Policy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 controlling money supply to influence econom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 way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N MARKET OP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RVE RAT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OUNT RA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2:29:26Z</dcterms:created>
  <dc:creator>Lewisburg Area School District</dc:creator>
  <dc:description/>
  <dc:language>en-US</dc:language>
  <cp:lastModifiedBy>Lewisburg Area School District</cp:lastModifiedBy>
  <dcterms:modified xsi:type="dcterms:W3CDTF">2010-01-12T03:31:47Z</dcterms:modified>
  <cp:revision>1</cp:revision>
  <dc:subject/>
  <dc:title>And the second half begins</dc:title>
</cp:coreProperties>
</file>